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D4F-F632-48F3-8855-72D3D974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839-4C20-4FEB-80C7-2998895F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1CE-86E9-4CD5-BC1C-0AD3FECF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424-DFD4-49E2-935C-0E60E943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483-42DB-44F1-B73E-F7222E2B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050-6F1A-4099-BF36-A4DF1873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7A2-E914-4E47-94BA-35F11998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F6C-926D-49FB-9513-784D47C0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FBF-F8B4-4019-909E-9AF6D414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290-E9EF-45D8-931E-E6308DDD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6CF-806D-48A1-A480-CDB5B288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05C-5823-4A84-8733-456EE2F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1966-E3CA-4F06-A1BD-5997809D8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Social Media awareness campaig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2015640"/>
            <a:ext cx="368784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cial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lective of online communications channels dedicated to community-based input, interaction, content-sharing and collabo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dvantages of Social Media Marketing for your business toda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Brand Awareness as social media is one of the most cost-efficient digital marketing methods used to syndicate content and increase your business’ vi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Customer Satisfaction through easier feedback chann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-Effective as social media marketing is possibly the most cost-efficient part of an advertising strateg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sadvantages of social med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tatistic figures for social media platform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28560" y="1825560"/>
          <a:ext cx="7886880" cy="259560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  <a:gridCol w="2629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media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les 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males 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bo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sAp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ter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gra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ed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6T07:02:45Z</dcterms:created>
  <dc:creator>Bazira Paul</dc:creator>
  <dc:description/>
  <dc:language>en-US</dc:language>
  <cp:lastModifiedBy>Bazira Paul</cp:lastModifiedBy>
  <dcterms:modified xsi:type="dcterms:W3CDTF">2018-08-06T13:25:43Z</dcterms:modified>
  <cp:revision>6</cp:revision>
  <dc:subject/>
  <dc:title>PowerPoint Presentation</dc:title>
</cp:coreProperties>
</file>